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B44-B235-4CF9-8654-4B80F27A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592-4F75-472C-B72C-302AD9D0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C19E-A480-45FB-BB78-25AD4557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C20F-0162-41FC-9171-00FC5618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431-9F00-4850-942C-3F4488E5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6AEE-40EC-4EBF-823A-4D4F258B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903-1B9B-4BD8-B993-4243CB48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A54-64D9-4F1A-95BA-52771E56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09D-69D4-497F-80FE-DF6A2ABD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3FB-AF57-4B12-B47C-13266B3D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BBDF-3C9B-4A07-9061-5F78C70E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FE71-5505-46AE-A12C-B13C6B35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6265A-DADC-438E-AFFC-965D1CBF66A4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winter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noise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headaches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sleep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bed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water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see%20night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dark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lots%20love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dear%20john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dry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fleas%20lice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fight%20brave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rats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n%20happy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pain%20here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how%20many%20room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too%20many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clean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cold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afraid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scared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um%20scratch.mp3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son%20stupid%20battles.mp3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is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ick on the pictures from left to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ick if there is a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ross if there is no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08:30:25Z</dcterms:created>
  <dc:creator>dominique  camier</dc:creator>
  <dc:description/>
  <dc:language>en-US</dc:language>
  <cp:lastModifiedBy>dominique  camier</cp:lastModifiedBy>
  <dcterms:modified xsi:type="dcterms:W3CDTF">2014-03-05T09:39:51Z</dcterms:modified>
  <cp:revision>27</cp:revision>
  <dc:subject/>
  <dc:title/>
</cp:coreProperties>
</file>